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9D58-411B-4328-9B73-67A2D195CE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B03E-A1B5-43F4-ADB5-2562AFA96740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87B9-6A80-42A3-9949-9845F0CB7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B2DF-0494-4382-B043-FC405C4A6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D7E6-055E-40B1-9541-04AE12678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F4DD-001D-460A-A87D-25F60C917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21975-FC8E-4483-9D0B-75EB3B5A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754F2-7564-4801-8696-29875C16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66145-6C35-40B7-834D-1947B197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6EC11-126F-4CC3-98E1-F20F002D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B5BD9-3956-4ADC-B540-1D0F8C4A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3EDF0-D73C-4FC3-9D0B-4493E1B2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21CE9-358C-4B24-B1C7-F86314C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2B11-207F-4DAE-AECC-0AAA28BA6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2E941-CD01-483E-9304-C283C7A4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48999-A516-4119-9737-EAC6B8D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E77FB-8A47-4371-A989-78900261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C0A44-D604-4000-98A8-CDEE7565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C844B-ABB9-4E62-BCB8-EBC12AA3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B01F03-80D8-45D2-95B8-923D799DEE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11743-2499-41CA-85A6-3293762F91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1B4DE-6F45-448D-A476-2CEFDE6337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73FDEA-9397-43D4-A5E4-EEB27648EF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DDBD4-0113-481E-8F3F-60795F74D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8DFC-F5D8-4679-8E01-D405ABF576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598E5-96CA-438C-8A42-94E04A0A3F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7360C1-635C-45BE-86E5-C5F5F084BE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AE504-0D67-4932-8EDC-C5D3223C19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466F2E-F36A-41A4-93D0-3D6AEAD2EF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AE7EC-7095-4A99-AD78-22BAF5E4F3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6006C4-078C-4699-AC61-A321881356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5DAF9-021A-4FA2-B83D-62AEB845A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9272-085B-4487-8AC2-B87CCCDD5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C129-F042-4B8F-8348-FC2376C20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A98B-3967-4327-B4C6-FE0BC8E38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9D90-0DF9-494E-895D-47859BF15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1418-E517-4628-9189-19BFDD756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0E6C-A22A-4D59-AF94-F8C75B6DE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639EA7C-942C-4235-8B0B-35B28D9B4C3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0293192-CD5B-4DC8-A774-AD536194AF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6020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EAFA-0840-4967-9955-ADE503CDF61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2" descr=""/>
          <p:cNvPicPr/>
          <p:nvPr/>
        </p:nvPicPr>
        <p:blipFill>
          <a:blip r:embed="rId2"/>
          <a:stretch/>
        </p:blipFill>
        <p:spPr>
          <a:xfrm>
            <a:off x="5508720" y="519120"/>
            <a:ext cx="3024000" cy="57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6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2A5DBED3-B679-42B6-88E0-1CF3327AC25A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E154CD8F-626A-4D35-9EAF-39DA1FD1B409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93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205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217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6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95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14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18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322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7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48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52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02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5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76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9-01-24T10:24:00Z</dcterms:modified>
  <cp:revision>369</cp:revision>
  <dc:subject/>
  <dc:title>No Slide Title</dc:title>
</cp:coreProperties>
</file>